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A48-EE90-44FF-9C3B-5332D3B7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CCD-304C-4818-9981-CE414B8F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6AD-0ADA-46C6-8110-3A0794E6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4F0-4A37-4E1A-8A00-607FFDFE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41E2-1944-44B7-A2FF-567143E8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7637-A64C-40C5-BA20-DEC8973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1503-4B78-4F11-B686-A4096995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671A-CB45-4C3D-B087-DAD6679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93E0-33FB-4F90-9211-46EE119E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3D43-FE0F-42A3-B01F-0DEDA72C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0171-D356-4DE8-8B14-BC4F4EF2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5DA-319B-4AD9-90F5-BB3F0AD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8A4D-4449-4B4E-83BD-23CCC25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1E2A-49C7-4838-AD7A-E760E4DA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F495-AA3F-4DB8-BDB8-55609301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16F3-2BB8-4377-89E5-C1622FDE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5CB9-C745-4650-859A-ACEDDEF6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456-341C-4E70-A384-937548E3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5D9-FB29-4736-BE31-2D5B5815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A21-23EA-4F7F-98B4-037DECC2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B18-4614-4A39-9910-0B26953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C12-576B-4B76-BEE9-504BC68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A89-2A41-47D0-9211-F22C485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57A-D3E0-4AE6-919F-14A15AA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446-DFFA-41D4-96BE-EDE872BA4F5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BA79-FF3E-4293-BF88-7336D1CB66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E59A-C311-4687-BB7B-585DA04BF5C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B949-C54D-4FD7-B089-4C157BE55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 Kezunovic, G. Huang, T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 Grady, S. Santoso, UT Aus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J. Lee, UT Arling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, August 11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867280"/>
            <a:ext cx="457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宋体"/>
              </a:rPr>
              <a:t>©2006 Mladen Kezunovic. All rights 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720" y="503280"/>
            <a:ext cx="806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  <a:ea typeface="宋体"/>
              </a:rPr>
              <a:t>Use of synchronized sampling in substations and system-wide applic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57200" y="990720"/>
            <a:ext cx="8305920" cy="5562360"/>
            <a:chOff x="457200" y="990720"/>
            <a:chExt cx="8305920" cy="5562360"/>
          </a:xfrm>
        </p:grpSpPr>
        <p:grpSp>
          <p:nvGrpSpPr>
            <p:cNvPr id="304" name=""/>
            <p:cNvGrpSpPr/>
            <p:nvPr/>
          </p:nvGrpSpPr>
          <p:grpSpPr>
            <a:xfrm>
              <a:off x="457200" y="1066680"/>
              <a:ext cx="2971440" cy="609840"/>
              <a:chOff x="457200" y="1066680"/>
              <a:chExt cx="2971440" cy="609840"/>
            </a:xfrm>
          </p:grpSpPr>
          <p:sp>
            <p:nvSpPr>
              <p:cNvPr id="305" name=""/>
              <p:cNvSpPr/>
              <p:nvPr/>
            </p:nvSpPr>
            <p:spPr>
              <a:xfrm>
                <a:off x="531360" y="1066680"/>
                <a:ext cx="289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Email, Fax, Hosting, WWW, Pager Notif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" y="1066680"/>
                <a:ext cx="2897280" cy="609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038480" y="990720"/>
              <a:ext cx="952560" cy="609480"/>
              <a:chOff x="4038480" y="990720"/>
              <a:chExt cx="952560" cy="6094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4038480" y="990720"/>
                <a:ext cx="952560" cy="609480"/>
                <a:chOff x="4038480" y="990720"/>
                <a:chExt cx="95256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38480" y="1058400"/>
                  <a:ext cx="8841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38480" y="990720"/>
                  <a:ext cx="952560" cy="609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4106520" y="990720"/>
                <a:ext cx="865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ntranet Interne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638680" y="990720"/>
              <a:ext cx="2362320" cy="609480"/>
              <a:chOff x="5638680" y="990720"/>
              <a:chExt cx="2362320" cy="609480"/>
            </a:xfrm>
          </p:grpSpPr>
          <p:sp>
            <p:nvSpPr>
              <p:cNvPr id="313" name=""/>
              <p:cNvSpPr/>
              <p:nvPr/>
            </p:nvSpPr>
            <p:spPr>
              <a:xfrm>
                <a:off x="5638680" y="990720"/>
                <a:ext cx="236232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Wide-area network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(hubs, routers, gateways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8680" y="990720"/>
                <a:ext cx="2362320" cy="609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990720" y="2057400"/>
              <a:ext cx="1371600" cy="580680"/>
              <a:chOff x="990720" y="2057400"/>
              <a:chExt cx="1371600" cy="580680"/>
            </a:xfrm>
          </p:grpSpPr>
          <p:sp>
            <p:nvSpPr>
              <p:cNvPr id="316" name=""/>
              <p:cNvSpPr/>
              <p:nvPr/>
            </p:nvSpPr>
            <p:spPr>
              <a:xfrm>
                <a:off x="990720" y="2057400"/>
                <a:ext cx="1371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ystem wide analysi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90720" y="20574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543480" y="2514600"/>
              <a:ext cx="2057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809880" y="2057400"/>
              <a:ext cx="1524240" cy="580680"/>
              <a:chOff x="3809880" y="2057400"/>
              <a:chExt cx="1524240" cy="580680"/>
            </a:xfrm>
          </p:grpSpPr>
          <p:sp>
            <p:nvSpPr>
              <p:cNvPr id="320" name=""/>
              <p:cNvSpPr/>
              <p:nvPr/>
            </p:nvSpPr>
            <p:spPr>
              <a:xfrm>
                <a:off x="3809880" y="2057400"/>
                <a:ext cx="1524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Mobile Agent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9880" y="2057400"/>
                <a:ext cx="152424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1981080"/>
              <a:ext cx="1447560" cy="580680"/>
              <a:chOff x="6400800" y="1981080"/>
              <a:chExt cx="1447560" cy="580680"/>
            </a:xfrm>
          </p:grpSpPr>
          <p:sp>
            <p:nvSpPr>
              <p:cNvPr id="323" name=""/>
              <p:cNvSpPr/>
              <p:nvPr/>
            </p:nvSpPr>
            <p:spPr>
              <a:xfrm>
                <a:off x="6400800" y="1981080"/>
                <a:ext cx="1447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ystem wide contro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1981080"/>
                <a:ext cx="144756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733920" y="284796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MTRADE IEC 618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181480" y="3657600"/>
              <a:ext cx="3200400" cy="2547000"/>
              <a:chOff x="5181480" y="3657600"/>
              <a:chExt cx="3200400" cy="25470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181480" y="3657600"/>
                <a:ext cx="3200400" cy="337320"/>
                <a:chOff x="5181480" y="3657600"/>
                <a:chExt cx="3200400" cy="3373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181480" y="3657600"/>
                  <a:ext cx="3200400" cy="33732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ubstation Analysis and Contro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257800" y="3657600"/>
                  <a:ext cx="3047760" cy="3049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162920" y="5334120"/>
                <a:ext cx="838080" cy="337320"/>
                <a:chOff x="7162920" y="5334120"/>
                <a:chExt cx="838080" cy="3373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23924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62920" y="53341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T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562720" y="5334120"/>
                <a:ext cx="838080" cy="337320"/>
                <a:chOff x="5562720" y="5334120"/>
                <a:chExt cx="838080" cy="3373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63904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62720" y="53341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P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162920" y="4876920"/>
                <a:ext cx="838080" cy="337320"/>
                <a:chOff x="7162920" y="4876920"/>
                <a:chExt cx="838080" cy="3373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23924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162920" y="48769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562720" y="4876920"/>
                <a:ext cx="838080" cy="337320"/>
                <a:chOff x="5562720" y="4876920"/>
                <a:chExt cx="838080" cy="3373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63904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562720" y="48769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B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162920" y="4419720"/>
                <a:ext cx="838080" cy="337320"/>
                <a:chOff x="7162920" y="4419720"/>
                <a:chExt cx="838080" cy="3373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23924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62920" y="44197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PM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562720" y="4419720"/>
                <a:ext cx="838080" cy="337320"/>
                <a:chOff x="5562720" y="4419720"/>
                <a:chExt cx="838080" cy="337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63904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562720" y="44197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F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324480" y="5791320"/>
                <a:ext cx="990360" cy="413280"/>
                <a:chOff x="6324480" y="5791320"/>
                <a:chExt cx="990360" cy="4132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324480" y="5791320"/>
                  <a:ext cx="99036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00440" y="5867280"/>
                  <a:ext cx="914400" cy="3373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GP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762120" y="3657600"/>
              <a:ext cx="3200400" cy="2547000"/>
              <a:chOff x="762120" y="3657600"/>
              <a:chExt cx="3200400" cy="2547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762120" y="3657600"/>
                <a:ext cx="3200400" cy="337320"/>
                <a:chOff x="762120" y="3657600"/>
                <a:chExt cx="3200400" cy="3373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62120" y="3657600"/>
                  <a:ext cx="3200400" cy="33732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ubstation Analysis and Contro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38440" y="3657600"/>
                  <a:ext cx="3047760" cy="3049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1066680" y="4419720"/>
                <a:ext cx="838080" cy="337320"/>
                <a:chOff x="1066680" y="4419720"/>
                <a:chExt cx="838080" cy="3373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14300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66680" y="44197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F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66880" y="5334120"/>
                <a:ext cx="838080" cy="337320"/>
                <a:chOff x="2666880" y="5334120"/>
                <a:chExt cx="838080" cy="3373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4320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66880" y="53341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T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666880" y="4876920"/>
                <a:ext cx="838080" cy="337320"/>
                <a:chOff x="2666880" y="4876920"/>
                <a:chExt cx="838080" cy="337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74320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66880" y="48769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666880" y="4419720"/>
                <a:ext cx="838080" cy="337320"/>
                <a:chOff x="2666880" y="4419720"/>
                <a:chExt cx="838080" cy="3373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743200" y="44197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666880" y="441972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PM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066680" y="5334120"/>
                <a:ext cx="838080" cy="337320"/>
                <a:chOff x="1066680" y="5334120"/>
                <a:chExt cx="838080" cy="3373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143000" y="53341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066680" y="53341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DP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066680" y="4876920"/>
                <a:ext cx="838080" cy="337320"/>
                <a:chOff x="1066680" y="4876920"/>
                <a:chExt cx="838080" cy="3373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143000" y="4876920"/>
                  <a:ext cx="685800" cy="304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066680" y="4876920"/>
                  <a:ext cx="838080" cy="3373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B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1752480" y="5791320"/>
                <a:ext cx="990360" cy="413280"/>
                <a:chOff x="1752480" y="5791320"/>
                <a:chExt cx="990360" cy="4132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752480" y="5791320"/>
                  <a:ext cx="99036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28440" y="5867280"/>
                  <a:ext cx="914400" cy="3373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GP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2286000" y="3962520"/>
                <a:ext cx="0" cy="1828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28800" y="45720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28800" y="50292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28800" y="5486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800600" y="3429000"/>
              <a:ext cx="3962520" cy="31240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2320" y="22860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22860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29000" y="1600200"/>
              <a:ext cx="5335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2680" y="1676520"/>
              <a:ext cx="5335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495680" y="1600200"/>
              <a:ext cx="75960" cy="457200"/>
              <a:chOff x="4495680" y="1600200"/>
              <a:chExt cx="75960" cy="457200"/>
            </a:xfrm>
          </p:grpSpPr>
          <p:sp>
            <p:nvSpPr>
              <p:cNvPr id="386" name=""/>
              <p:cNvSpPr/>
              <p:nvPr/>
            </p:nvSpPr>
            <p:spPr>
              <a:xfrm>
                <a:off x="4571640" y="16002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95680" y="16002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5257800" y="1600200"/>
              <a:ext cx="83808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029200" y="1600200"/>
              <a:ext cx="83808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200400" y="2895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638680" y="2895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00400" y="28954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4280" y="28954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114800" y="2590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734000" y="2590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" y="3429000"/>
              <a:ext cx="3962520" cy="31240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96252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24480" y="45720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24480" y="50292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24480" y="54864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5BC-FBE9-4AE1-8F05-3C32E98D48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cope of Wor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#1: Development of New Field Equipment (CB Monitor, field test s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#2: Deployment of new applications (substations, control Center, ERC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#3: Exploration of new services (Calibration Lab and Economic study of benefi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299-5013-491F-BBF1-2D99D8BE4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9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du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8720" y="1634760"/>
            <a:ext cx="8535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ircuit Breaker Monitor (CBM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1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BM analysis (CBM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FR analysis (DFR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PR analysis (DPRA)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tegrated substation analysis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C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Equip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ertification and calibration lab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3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ield test equipment for GPS-enabled IE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 #1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B2D-8809-4B57-9A7C-06EEDB7322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du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Cen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ault location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B&amp;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arm Processor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oltage Security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te Estimator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odel Verification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ask#2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Economic Benefits,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Task#3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1E3-8849-4E4B-83AA-6B3EC336C7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60240" y="1676160"/>
            <a:ext cx="76456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Automated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8D4-9831-4E05-8355-6B90B9209B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5240" y="549720"/>
            <a:ext cx="8534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bstation applications 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23924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C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CBMA, DPRA, DF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ed testing in TAMU l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client-serv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field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4F2-670B-43A2-9171-7C7396EF95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49360" y="1351080"/>
            <a:ext cx="8190000" cy="5110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bstation Application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Overall Architectur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C79-B52D-4CA1-91D5-B41CA04DF2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ynchronized Sampling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BM Synchronization circui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24955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synchro" descr=""/>
          <p:cNvPicPr/>
          <p:nvPr/>
        </p:nvPicPr>
        <p:blipFill>
          <a:blip r:embed="rId1"/>
          <a:stretch/>
        </p:blipFill>
        <p:spPr>
          <a:xfrm>
            <a:off x="1174680" y="1622520"/>
            <a:ext cx="679608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6E2-70C6-4FB8-8CF6-39D81B3B7D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23960" y="39240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345KV Line, CNP Substa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413000" y="1854360"/>
            <a:ext cx="6610320" cy="44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133-CCA8-4C76-9B97-037430274A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5240" y="329040"/>
            <a:ext cx="853416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ED connections  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eld Setup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433520" y="1817640"/>
            <a:ext cx="6276960" cy="40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532-6E8C-4068-A86F-BEE3782D00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3C5-B54F-4F15-9167-9453A9450C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673200" y="1397160"/>
          <a:ext cx="7772400" cy="4868640"/>
        </p:xfrm>
        <a:graphic>
          <a:graphicData uri="http://schemas.openxmlformats.org/drawingml/2006/table">
            <a:tbl>
              <a:tblPr/>
              <a:tblGrid>
                <a:gridCol w="988920"/>
                <a:gridCol w="847800"/>
                <a:gridCol w="5935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e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0c0c"/>
                    </a:solidFill>
                  </a:tcPr>
                </a:tc>
              </a:tr>
              <a:tr h="1008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b testing and field installation of individ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nitoring and control fun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ep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the Texas A&amp;M University (TAMU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 using digital simul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ep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CNP substation using field dat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has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b testing and field installation of an integrated monitoring and control fun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the TAMU lab using digital simulat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at CNP substation using field dat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891-A83E-4A86-A036-4605086AFD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F6B-316C-4112-8144-831D261390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799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RCOT Analysis Applic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55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ynchronized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larm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oltag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tate Estim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odel Ver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Interfaces for op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5C2-02A3-46AA-964F-18172D515D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39E-606C-4D32-A594-F7946A4C29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ynchronized sampling util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dvantage of synchronized samples coming from variety of IEDs (DFRs, DPRs, CBMs,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extracted features from the measured data (phasors, switching times, parame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ed features using GPS-precision time-st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0D6-CC35-438B-A5C2-554602FA1E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B65-50F7-4862-B064-FED1561E84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40000" y="1606320"/>
            <a:ext cx="65404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 Proces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utomate Cause-effect analysi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s using GPS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data from other IEDs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to R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corporate the information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DA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rchive detailed informa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data for reporting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BDC-3D18-40D2-A150-B2433DC289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63360" y="1606320"/>
            <a:ext cx="763740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Sec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alculate static stability margin index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regulated 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of GPS-synchronized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 IEDs located at neighboring 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Use voltage stability index for estim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margin of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by introducing a w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rchive trends for future training uses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 esti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6DC-C578-47DC-84FB-714FB59A53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40000" y="1606320"/>
            <a:ext cx="65404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Estima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se GPS-synchronized data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EDs in addition to R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e Synchronized Pha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to improve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mprove Topology Processor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Synchronized CBM statu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ke enhancement to 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 displays with time-sta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nitor performance of the 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by comparing the result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-synchronized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D8F-629E-4673-9573-B54590B275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9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eld deployment and demonstr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0800" y="1606320"/>
            <a:ext cx="76582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Ver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GPS-Synchronized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other IEDs in addition to R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mpare system responses (measu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simulations (using mod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easure dynamic responses (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oads) and estimat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ke enhancement to existing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by adding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pdate the models “Continuous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C94-F330-4766-8EDD-5D48A5B552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CET and TE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E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med in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unded by members: TXU, CNP, AEP-Texas, Aus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, Freescale, National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cused on commercialization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tate Agency managed by Texas A&amp;M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eader of a consortium of universities (TxC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ested in working with CCET on development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olutions (Synchronized Sampling Proj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627960"/>
            <a:ext cx="32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  <a:ea typeface="宋体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3E6-C02B-48D2-8F3F-A1D7CB74DA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F8C-D088-4495-AAD7-5257513EB6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TF Applic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3, 2006: CCET Board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3, 2006: TO’s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11, 2006: ROS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???, 2006: CCET Board Approval of the commercializ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???, 2006: ERCOT Board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7, 2006: ETF Application Dead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2006: ETF award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2007: start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499-85AD-4959-A49C-565FB24F9D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48E-CD41-4FC7-82AF-B51B3DABD0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substation developments will be completed in FY2006 and demonstrated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utility in FY2006 will be CNP (two substations) with a possible extension to AEP-Texas and TXU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ERCOT applications will be initiated in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F support will bring match-funding for FY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match-funding will come from EPRI, DOE and ERCOT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pending budget appro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TxCEE universities will be involved in development; TEES will be the Lead i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ization plan will be out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714-94A8-420B-8B0B-AEA3F1006A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792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we: CCET and 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have we proposed to do: Scope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we already accomplished: Substa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portunity available to ERCOT:  Analysi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cope of work for ERCOT: Synchronized Sampling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expected deliverables and benefits: Field Deployment and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iming: ETF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6640560"/>
            <a:ext cx="330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79A-5CD4-458B-8430-C47EAF780A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cope of Wor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new concept of data integration and informatio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 the use of synchronized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oducts to facilitate the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 the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a commercialization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C1A-E917-4F8A-95B9-88D7E1A51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Main Ide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31920" y="2193840"/>
            <a:ext cx="6845400" cy="4009320"/>
            <a:chOff x="1231920" y="2193840"/>
            <a:chExt cx="6845400" cy="4009320"/>
          </a:xfrm>
        </p:grpSpPr>
        <p:sp>
          <p:nvSpPr>
            <p:cNvPr id="101" name=""/>
            <p:cNvSpPr/>
            <p:nvPr/>
          </p:nvSpPr>
          <p:spPr>
            <a:xfrm>
              <a:off x="5702400" y="3100320"/>
              <a:ext cx="237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mission Li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0840" y="2193840"/>
              <a:ext cx="0" cy="2197080"/>
            </a:xfrm>
            <a:prstGeom prst="line">
              <a:avLst/>
            </a:prstGeom>
            <a:ln w="158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4600" y="2849400"/>
              <a:ext cx="308160" cy="2858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90840" y="3552840"/>
              <a:ext cx="28447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0480" y="3552840"/>
              <a:ext cx="258156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0320" y="3552840"/>
              <a:ext cx="0" cy="5094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84800" y="4075200"/>
              <a:ext cx="322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84800" y="4284720"/>
              <a:ext cx="322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0320" y="4284720"/>
              <a:ext cx="0" cy="14619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0480" y="5743440"/>
              <a:ext cx="1239840" cy="324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84600" y="3762360"/>
              <a:ext cx="0" cy="5554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95720" y="3773520"/>
              <a:ext cx="0" cy="5493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0800" y="3552840"/>
              <a:ext cx="0" cy="9478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8640" y="3552840"/>
              <a:ext cx="0" cy="11970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8640" y="4749840"/>
              <a:ext cx="23749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1920" y="2895480"/>
              <a:ext cx="205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urr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form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9440" y="4390920"/>
              <a:ext cx="73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898640" y="3449520"/>
              <a:ext cx="721800" cy="208080"/>
              <a:chOff x="1898640" y="3449520"/>
              <a:chExt cx="721800" cy="208080"/>
            </a:xfrm>
          </p:grpSpPr>
          <p:sp>
            <p:nvSpPr>
              <p:cNvPr id="119" name=""/>
              <p:cNvSpPr/>
              <p:nvPr/>
            </p:nvSpPr>
            <p:spPr>
              <a:xfrm>
                <a:off x="189864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8376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2236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6060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45520" y="3449520"/>
                <a:ext cx="159840" cy="208080"/>
              </a:xfrm>
              <a:custGeom>
                <a:avLst/>
                <a:gdLst/>
                <a:ahLst/>
                <a:rect l="l" t="t" r="r" b="b"/>
                <a:pathLst>
                  <a:path w="222" h="210">
                    <a:moveTo>
                      <a:pt x="0" y="210"/>
                    </a:moveTo>
                    <a:cubicBezTo>
                      <a:pt x="7" y="121"/>
                      <a:pt x="5" y="32"/>
                      <a:pt x="102" y="0"/>
                    </a:cubicBezTo>
                    <a:cubicBezTo>
                      <a:pt x="116" y="2"/>
                      <a:pt x="130" y="3"/>
                      <a:pt x="144" y="6"/>
                    </a:cubicBezTo>
                    <a:cubicBezTo>
                      <a:pt x="156" y="9"/>
                      <a:pt x="180" y="18"/>
                      <a:pt x="180" y="18"/>
                    </a:cubicBezTo>
                    <a:cubicBezTo>
                      <a:pt x="222" y="80"/>
                      <a:pt x="216" y="136"/>
                      <a:pt x="216" y="210"/>
                    </a:cubicBezTo>
                  </a:path>
                </a:pathLst>
              </a:custGeom>
              <a:noFill/>
              <a:ln w="1584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819520" y="3505320"/>
              <a:ext cx="118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onta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A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160" y="3511440"/>
              <a:ext cx="89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B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3873600"/>
              <a:ext cx="1506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apacitiv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ansform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2360" y="4003560"/>
              <a:ext cx="5364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35160" y="4378320"/>
              <a:ext cx="204840" cy="247680"/>
            </a:xfrm>
            <a:prstGeom prst="ellipse">
              <a:avLst/>
            </a:prstGeom>
            <a:noFill/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16320" y="5892840"/>
              <a:ext cx="1960560" cy="4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8480" y="4626000"/>
              <a:ext cx="0" cy="10159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38480" y="5641920"/>
              <a:ext cx="12384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0800" y="4500720"/>
              <a:ext cx="166068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3000" y="4664160"/>
              <a:ext cx="204840" cy="249120"/>
            </a:xfrm>
            <a:prstGeom prst="ellipse">
              <a:avLst/>
            </a:prstGeom>
            <a:noFill/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16320" y="4898880"/>
              <a:ext cx="0" cy="99396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00480" y="4378320"/>
              <a:ext cx="3826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342040" y="4003560"/>
              <a:ext cx="366120" cy="1201320"/>
              <a:chOff x="5342040" y="4003560"/>
              <a:chExt cx="366120" cy="1201320"/>
            </a:xfrm>
          </p:grpSpPr>
          <p:sp>
            <p:nvSpPr>
              <p:cNvPr id="137" name=""/>
              <p:cNvSpPr/>
              <p:nvPr/>
            </p:nvSpPr>
            <p:spPr>
              <a:xfrm>
                <a:off x="5342040" y="4428360"/>
                <a:ext cx="36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ce157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6720" y="4003560"/>
                <a:ext cx="0" cy="546120"/>
              </a:xfrm>
              <a:prstGeom prst="line">
                <a:avLst/>
              </a:prstGeom>
              <a:ln w="1584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36720" y="4699080"/>
                <a:ext cx="0" cy="505800"/>
              </a:xfrm>
              <a:prstGeom prst="line">
                <a:avLst/>
              </a:prstGeom>
              <a:ln w="1584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4979880" y="5202360"/>
              <a:ext cx="45720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79880" y="5202360"/>
              <a:ext cx="0" cy="2826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5520" y="5896080"/>
              <a:ext cx="11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Cur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10160" y="5757840"/>
              <a:ext cx="91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995720" y="4003560"/>
              <a:ext cx="44136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7520" y="3757680"/>
              <a:ext cx="204840" cy="247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410080" y="3755880"/>
              <a:ext cx="206640" cy="24768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00480" y="4626000"/>
              <a:ext cx="123984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54320" y="5194440"/>
              <a:ext cx="412920" cy="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8280" y="4351320"/>
              <a:ext cx="30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ce157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4533840"/>
              <a:ext cx="41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ce157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54320" y="4805280"/>
              <a:ext cx="0" cy="3841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3280" y="4000680"/>
              <a:ext cx="0" cy="46512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4520" y="5194440"/>
              <a:ext cx="0" cy="293400"/>
            </a:xfrm>
            <a:prstGeom prst="line">
              <a:avLst/>
            </a:prstGeom>
            <a:ln w="15840">
              <a:solidFill>
                <a:srgbClr val="9ce15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356000" y="2193840"/>
              <a:ext cx="744480" cy="608040"/>
              <a:chOff x="4356000" y="2193840"/>
              <a:chExt cx="744480" cy="608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376880" y="2193840"/>
                <a:ext cx="723600" cy="608040"/>
              </a:xfrm>
              <a:prstGeom prst="rect">
                <a:avLst/>
              </a:prstGeom>
              <a:solidFill>
                <a:srgbClr val="96969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56000" y="236196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CB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264200" y="4303800"/>
              <a:ext cx="836280" cy="625320"/>
              <a:chOff x="4264200" y="4303800"/>
              <a:chExt cx="836280" cy="625320"/>
            </a:xfrm>
          </p:grpSpPr>
          <p:sp>
            <p:nvSpPr>
              <p:cNvPr id="158" name=""/>
              <p:cNvSpPr/>
              <p:nvPr/>
            </p:nvSpPr>
            <p:spPr>
              <a:xfrm>
                <a:off x="4273560" y="4303800"/>
                <a:ext cx="826920" cy="625320"/>
              </a:xfrm>
              <a:prstGeom prst="rect">
                <a:avLst/>
              </a:prstGeom>
              <a:solidFill>
                <a:srgbClr val="99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64200" y="4530600"/>
                <a:ext cx="82692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D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238640" y="5478480"/>
              <a:ext cx="1033560" cy="523800"/>
              <a:chOff x="4238640" y="5478480"/>
              <a:chExt cx="1033560" cy="523800"/>
            </a:xfrm>
          </p:grpSpPr>
          <p:sp>
            <p:nvSpPr>
              <p:cNvPr id="161" name=""/>
              <p:cNvSpPr/>
              <p:nvPr/>
            </p:nvSpPr>
            <p:spPr>
              <a:xfrm>
                <a:off x="4376880" y="5478480"/>
                <a:ext cx="723600" cy="523800"/>
              </a:xfrm>
              <a:prstGeom prst="rect">
                <a:avLst/>
              </a:prstGeom>
              <a:solidFill>
                <a:srgbClr val="99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38640" y="5581800"/>
                <a:ext cx="103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Times New Roman"/>
                  </a:rPr>
                  <a:t>DF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79840" y="3238560"/>
              <a:ext cx="620640" cy="523800"/>
              <a:chOff x="4479840" y="3238560"/>
              <a:chExt cx="620640" cy="52380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1640" y="3238560"/>
                <a:ext cx="618840" cy="523800"/>
              </a:xfrm>
              <a:prstGeom prst="rect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79840" y="335268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916-697D-4315-8FED-AA0A101FDE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1218960"/>
            <a:ext cx="8457840" cy="4654440"/>
            <a:chOff x="457200" y="1218960"/>
            <a:chExt cx="8457840" cy="4654440"/>
          </a:xfrm>
        </p:grpSpPr>
        <p:sp>
          <p:nvSpPr>
            <p:cNvPr id="168" name=""/>
            <p:cNvSpPr/>
            <p:nvPr/>
          </p:nvSpPr>
          <p:spPr>
            <a:xfrm>
              <a:off x="2625840" y="1467000"/>
              <a:ext cx="7578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F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78200" y="1467000"/>
              <a:ext cx="82548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05080" y="1483200"/>
              <a:ext cx="89748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07560" y="1483200"/>
              <a:ext cx="8935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97560" y="3584880"/>
              <a:ext cx="10026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L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7480" y="4662000"/>
              <a:ext cx="8276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17600" y="3036960"/>
              <a:ext cx="82548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07560" y="3036960"/>
              <a:ext cx="8265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19800" y="2170080"/>
              <a:ext cx="8287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2760" y="4674960"/>
              <a:ext cx="82872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F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7360" y="4699440"/>
              <a:ext cx="91116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B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34240" y="4710600"/>
              <a:ext cx="82476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P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8160" y="4699440"/>
              <a:ext cx="8683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T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88480" y="4710600"/>
              <a:ext cx="8265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O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4960" y="1848600"/>
              <a:ext cx="0" cy="281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84640" y="3974040"/>
              <a:ext cx="0" cy="70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6640" y="3427920"/>
              <a:ext cx="0" cy="127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32720" y="2834280"/>
              <a:ext cx="6682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8040" y="4259160"/>
              <a:ext cx="6682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5920" y="3427920"/>
              <a:ext cx="0" cy="58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333320" y="4009680"/>
              <a:ext cx="731880" cy="66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0960" y="1848600"/>
              <a:ext cx="0" cy="173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13560" y="184860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892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668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572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00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63040" y="18604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155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352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8752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0720" y="3427920"/>
              <a:ext cx="0" cy="55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720" y="3974040"/>
              <a:ext cx="609840" cy="72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66960" y="1872360"/>
              <a:ext cx="0" cy="282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14000" y="1872360"/>
              <a:ext cx="0" cy="29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7680" y="2561040"/>
              <a:ext cx="0" cy="47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41000" y="3427920"/>
              <a:ext cx="0" cy="127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98400" y="3427920"/>
              <a:ext cx="0" cy="52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98400" y="3950640"/>
              <a:ext cx="623520" cy="73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309640" y="1218960"/>
              <a:ext cx="0" cy="181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9640" y="1231200"/>
              <a:ext cx="233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7680" y="1231200"/>
              <a:ext cx="0" cy="24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51280" y="505476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913560" y="505476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3336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079240" y="509040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485680" y="509040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09588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026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24788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682040" y="506664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26452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5000" y="5078520"/>
              <a:ext cx="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635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433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9240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6156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728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63040" y="18842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5760" y="18723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13560" y="3974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8240" y="39862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7360" y="398628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9720" y="399816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012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586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856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51280" y="3427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6720" y="343980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5660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7864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6720" y="2561040"/>
              <a:ext cx="0" cy="21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25760" y="2572920"/>
              <a:ext cx="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0040" y="5364360"/>
              <a:ext cx="4190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6160" y="537552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0640" y="537552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5120" y="538632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9640" y="5375520"/>
              <a:ext cx="4190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3680" y="5413680"/>
              <a:ext cx="417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5080" y="541368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36880" y="5399280"/>
              <a:ext cx="42084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31160" y="539928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67920" y="5413680"/>
              <a:ext cx="42012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63280" y="5411880"/>
              <a:ext cx="417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600" y="1514520"/>
              <a:ext cx="2018520" cy="1008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ENTRALIZED LO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4480" y="3119040"/>
              <a:ext cx="1965240" cy="703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SUBS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4532400"/>
              <a:ext cx="1963440" cy="1008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LEVEL II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SWITCHYARD INTE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F99-05AA-4F07-9963-4BE56A3EE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ce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27120" y="3313080"/>
            <a:ext cx="6324120" cy="2950920"/>
            <a:chOff x="1527120" y="3313080"/>
            <a:chExt cx="6324120" cy="2950920"/>
          </a:xfrm>
        </p:grpSpPr>
        <p:sp>
          <p:nvSpPr>
            <p:cNvPr id="257" name=""/>
            <p:cNvSpPr/>
            <p:nvPr/>
          </p:nvSpPr>
          <p:spPr>
            <a:xfrm>
              <a:off x="17625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64280" y="5531760"/>
              <a:ext cx="68724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69600" y="5531760"/>
              <a:ext cx="86400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32080" y="5531760"/>
              <a:ext cx="11192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DP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51680" y="5531760"/>
              <a:ext cx="785520" cy="67356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3760" y="5531760"/>
              <a:ext cx="10209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BM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55280" y="5531760"/>
              <a:ext cx="76608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16040" y="5531760"/>
              <a:ext cx="9032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RT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7120" y="5531760"/>
              <a:ext cx="94248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DF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39440" y="5531760"/>
              <a:ext cx="76572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0600" y="5650560"/>
              <a:ext cx="94248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S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22880" y="5531760"/>
              <a:ext cx="72684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85360" y="5650560"/>
              <a:ext cx="10213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PL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463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92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28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7660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096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762560" y="3788640"/>
              <a:ext cx="5833080" cy="1148400"/>
              <a:chOff x="1762560" y="3788640"/>
              <a:chExt cx="5833080" cy="1148400"/>
            </a:xfrm>
          </p:grpSpPr>
          <p:sp>
            <p:nvSpPr>
              <p:cNvPr id="276" name=""/>
              <p:cNvSpPr/>
              <p:nvPr/>
            </p:nvSpPr>
            <p:spPr>
              <a:xfrm>
                <a:off x="1762560" y="4362840"/>
                <a:ext cx="5833080" cy="574200"/>
              </a:xfrm>
              <a:prstGeom prst="rect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Data Integr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62560" y="3788640"/>
                <a:ext cx="5833080" cy="574200"/>
              </a:xfrm>
              <a:prstGeom prst="rect">
                <a:avLst/>
              </a:prstGeom>
              <a:solidFill>
                <a:srgbClr val="008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Information Exchang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280332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280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22880" y="3313080"/>
              <a:ext cx="471240" cy="4154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67440" y="5531760"/>
              <a:ext cx="726840" cy="67356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29920" y="5650560"/>
              <a:ext cx="10213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Q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et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65720" y="5075640"/>
              <a:ext cx="549720" cy="376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747800" y="1924200"/>
            <a:ext cx="5872320" cy="1311120"/>
          </a:xfrm>
          <a:prstGeom prst="can">
            <a:avLst>
              <a:gd name="adj" fmla="val 28125"/>
            </a:avLst>
          </a:prstGeom>
          <a:solidFill>
            <a:srgbClr val="3333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3160" y="2252520"/>
            <a:ext cx="42814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ataba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aw and pre-processed measu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ystem configur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CD6-BF8A-4C6C-A3ED-3E6128D947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formation Us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015320" y="2298600"/>
          <a:ext cx="124272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5320" y="2298600"/>
                    <a:ext cx="124272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244520" y="2209680"/>
          <a:ext cx="154620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4520" y="2209680"/>
                    <a:ext cx="15462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140360" y="1973160"/>
          <a:ext cx="1371600" cy="11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7316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7"/>
          <a:srcRect l="0" t="0" r="0" b="27594"/>
          <a:stretch/>
        </p:blipFill>
        <p:spPr>
          <a:xfrm>
            <a:off x="3679920" y="3365640"/>
            <a:ext cx="2200320" cy="723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340760" y="3568680"/>
            <a:ext cx="146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Summ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92240" y="3492360"/>
            <a:ext cx="1871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Comprehen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005280" y="3772080"/>
          <a:ext cx="3549600" cy="167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5280" y="3772080"/>
                    <a:ext cx="35496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054760" y="295920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e157"/>
                </a:solidFill>
                <a:latin typeface="Verdana"/>
              </a:rPr>
              <a:t>Brief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2640" y="18914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ngin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9560" y="1891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spat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35840" y="19677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Technic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8280" y="5435640"/>
            <a:ext cx="8610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 Black"/>
              </a:rPr>
              <a:t>Reports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can be </a:t>
            </a: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customized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according to the need of a particular category of users and disseminated via </a:t>
            </a:r>
            <a:r>
              <a:rPr b="1" lang="en-US" sz="2000" spc="-1" strike="noStrike">
                <a:solidFill>
                  <a:srgbClr val="66ffff"/>
                </a:solidFill>
                <a:latin typeface="Arial Black"/>
              </a:rPr>
              <a:t>fax, e-mail</a:t>
            </a:r>
            <a:r>
              <a:rPr b="1" lang="en-US" sz="2000" spc="-1" strike="noStrike">
                <a:solidFill>
                  <a:srgbClr val="00ff99"/>
                </a:solidFill>
                <a:latin typeface="Arial Black"/>
              </a:rPr>
              <a:t>, website, pager,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Kezunov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A71-2306-41D9-85AC-2B8D745FA4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7:49:05Z</dcterms:created>
  <dc:creator>Milos Todorovic</dc:creator>
  <dc:description/>
  <dc:language>en-US</dc:language>
  <cp:lastModifiedBy>mk</cp:lastModifiedBy>
  <dcterms:modified xsi:type="dcterms:W3CDTF">2006-08-03T07:31:54Z</dcterms:modified>
  <cp:revision>654</cp:revision>
  <dc:subject/>
  <dc:title>PowerPoint Presentation</dc:title>
</cp:coreProperties>
</file>